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FEFF-E68D-41EB-872A-119DB11DD5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we do a tri-photo with each environment represen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3898-4AB1-4986-B1E9-8D7D02AAC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insert new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A80C-CB40-4FB5-A7C8-332D6DFF4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5985-F58B-4728-B58C-833A9A316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8D84-9DB6-4DCC-84F2-20C0BC7E9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48DC-7509-4F8C-8590-C67D4241A6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96E3-134E-43E6-9D3C-D8D2A62F2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7427-4297-43DA-9670-F1CF401A68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YP fundamental concepts are dimensions of the IB mission statement, developed in the learner profile, that need to be highlighted and especially developed in the MYP. These 3 fundamental concepts provide guidance for schools in developing their school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5E25-2645-4BBC-970C-42BFAE4CB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ught in any language, though officially supported in 4: English French Spanish Chin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C4FD-59E7-402B-BFF9-C7AF94ECBD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are required to study their mother tongue, a second language, humanities, sciences, mathematics, arts, physical education and technology.  In the fifth</a:t>
            </a:r>
            <a:r>
              <a:rPr b="0" lang="en-GB" sz="1200" spc="-1" strike="noStrike">
                <a:solidFill>
                  <a:srgbClr val="ff4c22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r of the programme, students also engage in a personal project, which allows them to demonstrate the understandings and skills they have developed throughout the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requirements can be integrated into this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997D-B303-4993-9563-C1E6B96013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D0F9-DC92-4C03-B1B1-D21752520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D251-D12D-476A-8D3D-1563F3F21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D22B-E518-4779-9E3F-6E92DC86F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04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572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636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04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572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309B-B506-4437-A126-5680BD5BF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6360" y="914040"/>
            <a:ext cx="785016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CE02-0D42-4C35-9A0E-99989F856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04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572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636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04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572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2CBF-EA84-4C86-A398-CF95AF475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BB20-4951-49A6-9D66-83F4DB268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3EC1-2BD7-4637-B3A1-83C7EFB73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6360" y="914040"/>
            <a:ext cx="785016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AA11-C834-4AA8-9591-246F53D7E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7E6A-85CE-40F6-974B-A3C486409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57C5-7029-463F-85EC-4B0E332F8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F353-E7BD-4455-AFE8-1619EB40E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76000" y="63622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77a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Times New Roman"/>
              </a:rPr>
              <a:t>Page </a:t>
            </a:r>
            <a:fld id="{395E0199-D5E1-44C0-B0EB-264A507B50C9}" type="slidenum">
              <a:rPr b="0" lang="en-GB" sz="1000" spc="-1" strike="noStrike">
                <a:solidFill>
                  <a:srgbClr val="377a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Powerpoint graphic 1"/>
          <p:cNvPicPr/>
          <p:nvPr/>
        </p:nvPicPr>
        <p:blipFill>
          <a:blip r:embed="rId2"/>
          <a:stretch/>
        </p:blipFill>
        <p:spPr>
          <a:xfrm>
            <a:off x="152280" y="152280"/>
            <a:ext cx="7543800" cy="7095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3 Colour IB Hoz"/>
          <p:cNvPicPr/>
          <p:nvPr/>
        </p:nvPicPr>
        <p:blipFill>
          <a:blip r:embed="rId3"/>
          <a:stretch/>
        </p:blipFill>
        <p:spPr>
          <a:xfrm>
            <a:off x="7167600" y="304920"/>
            <a:ext cx="1295280" cy="393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6049080" y="6377040"/>
            <a:ext cx="238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77aff"/>
                </a:solidFill>
                <a:latin typeface="Arial"/>
              </a:rPr>
              <a:t>© International Baccalaureate Organization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611280" y="1589040"/>
            <a:ext cx="7810560" cy="0"/>
          </a:xfrm>
          <a:prstGeom prst="line">
            <a:avLst/>
          </a:prstGeom>
          <a:ln w="9360">
            <a:solidFill>
              <a:srgbClr val="7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owerpoint graphic 2"/>
          <p:cNvPicPr/>
          <p:nvPr/>
        </p:nvPicPr>
        <p:blipFill>
          <a:blip r:embed="rId2"/>
          <a:stretch/>
        </p:blipFill>
        <p:spPr>
          <a:xfrm>
            <a:off x="228600" y="5530680"/>
            <a:ext cx="8686800" cy="11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3 Colour IB Hoz"/>
          <p:cNvPicPr/>
          <p:nvPr/>
        </p:nvPicPr>
        <p:blipFill>
          <a:blip r:embed="rId3"/>
          <a:stretch/>
        </p:blipFill>
        <p:spPr>
          <a:xfrm>
            <a:off x="1066680" y="1066680"/>
            <a:ext cx="518184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3200" y="274320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1c4"/>
                </a:solidFill>
                <a:latin typeface="Arial"/>
              </a:rPr>
              <a:t>Middle Years Programme</a:t>
            </a:r>
            <a:endParaRPr b="1" lang="en-US" sz="24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0" y="57913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1c4"/>
                </a:solidFill>
                <a:latin typeface="Arial"/>
              </a:rPr>
              <a:t>The unique benefits of the MY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reas of interaction: 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Approaches to learning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6000" y="1981080"/>
            <a:ext cx="385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rough approaches to learning, teache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 students with tools t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responsibility for their own lear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awareness of how they learn b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problem solving and decision making ski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awareness of thought processes and learning strate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critical, coherent and independent thoug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8277232B-23FB-423E-8FBC-64AB1CCE0715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:\Strategic planning\communications\Images\Photos for calender\Possible photos for calendar\Possible photos for calendar\DSCF0006.JPG"/>
          <p:cNvPicPr/>
          <p:nvPr/>
        </p:nvPicPr>
        <p:blipFill>
          <a:blip r:embed="rId1"/>
          <a:stretch/>
        </p:blipFill>
        <p:spPr>
          <a:xfrm>
            <a:off x="4584600" y="2747880"/>
            <a:ext cx="3857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reas of interaction: 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Community &amp; service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6000" y="1981080"/>
            <a:ext cx="38559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area of interaction extends learn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yond the classroom and requ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udents  t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community awareness and concer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a sense of respons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an active part in the communities in which they live, thereby encouraging responsible citizensh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skills and attitudes that will enable effective contributions to socie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B7C2E32B-0535-46C6-A0C5-F7E46DDCFD23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:\Strategic planning\communications\Images\Photos for calender\Possible photos for calendar\Possible photos for calendar\Image bank photos\20_40_17.jpg"/>
          <p:cNvPicPr/>
          <p:nvPr/>
        </p:nvPicPr>
        <p:blipFill>
          <a:blip r:embed="rId1"/>
          <a:stretch/>
        </p:blipFill>
        <p:spPr>
          <a:xfrm>
            <a:off x="4584600" y="2754360"/>
            <a:ext cx="38577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reas of interaction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Health &amp; social education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A04D9B44-BA5A-47F5-A662-54BFB7CA0998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J:\Strategic planning\communications\Images\Photos for calender\Birkerod school\Sportsday at Birkerod Gymnasium.jpg"/>
          <p:cNvPicPr/>
          <p:nvPr/>
        </p:nvPicPr>
        <p:blipFill>
          <a:blip r:embed="rId1"/>
          <a:stretch/>
        </p:blipFill>
        <p:spPr>
          <a:xfrm>
            <a:off x="4584600" y="2592360"/>
            <a:ext cx="3857760" cy="2892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76000" y="1806120"/>
            <a:ext cx="385596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als with a variety of human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cluding physical, social and emot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lth and intelligence. Students wil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 aware of the relationship between the individual and socie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responsibility for their own well-being and for that of oth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responsibility for their social 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 able to make informed choices for themselves with consideration for the wider socie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reas of interaction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Environments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A281108E-CC28-4B6B-8AA3-52762025BBFD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6" descr=""/>
          <p:cNvPicPr/>
          <p:nvPr/>
        </p:nvPicPr>
        <p:blipFill>
          <a:blip r:embed="rId1"/>
          <a:srcRect l="0" t="0" r="0" b="11102"/>
          <a:stretch/>
        </p:blipFill>
        <p:spPr>
          <a:xfrm>
            <a:off x="4584600" y="2752560"/>
            <a:ext cx="3857760" cy="2571840"/>
          </a:xfrm>
          <a:prstGeom prst="rect">
            <a:avLst/>
          </a:prstGeom>
          <a:ln w="0">
            <a:noFill/>
          </a:ln>
        </p:spPr>
      </p:pic>
      <p:sp>
        <p:nvSpPr>
          <p:cNvPr id="143" name="Content Placeholder 2"/>
          <p:cNvSpPr/>
          <p:nvPr/>
        </p:nvSpPr>
        <p:spPr>
          <a:xfrm>
            <a:off x="642960" y="2075040"/>
            <a:ext cx="385596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ims to develop awareness of humanity’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dependence with a range 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vironments so that studen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derstand issues within natural, built and virtual environ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responsibility for maintaining and improving environments that are fit for the fu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action on issues explored through this area of inter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0ffff"/>
                </a:solidFill>
                <a:latin typeface="Arial"/>
              </a:rPr>
              <a:t>Areas of interaction: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Human ingenuity (</a:t>
            </a:r>
            <a:r>
              <a:rPr b="1" i="1" lang="en-GB" sz="2000" spc="-1" strike="noStrike">
                <a:solidFill>
                  <a:srgbClr val="3333cc"/>
                </a:solidFill>
                <a:latin typeface="Arial"/>
              </a:rPr>
              <a:t>Homo faber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88600" y="2249640"/>
            <a:ext cx="385596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udents explore the ways that hu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nds have influenced our lives. Stud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come aware of the nature of ingen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flect on the impact of innovations and creations, ideologies and ways of thinking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reciate the consequences of ac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70E71795-9FA5-4F09-BD1B-716FBEF3E9A9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J:\Strategic planning\communications\Images\Photos for calender\Sekolah Global Jaya\secondary.jpg"/>
          <p:cNvPicPr/>
          <p:nvPr/>
        </p:nvPicPr>
        <p:blipFill>
          <a:blip r:embed="rId1"/>
          <a:stretch/>
        </p:blipFill>
        <p:spPr>
          <a:xfrm>
            <a:off x="4713120" y="2843280"/>
            <a:ext cx="36007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ssessment: 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How do we assess student learning in the MYP?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0600" y="1990800"/>
            <a:ext cx="4262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a range of task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knowledge, concepts, skills and 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on refer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ly assessed (by teac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ly moderated for global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9842A475-4F71-4D5C-A569-A628546056CD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J:\Strategic planning\communications\Images\Photos for calender\Eyuboglu Istanbul\aktiviteler 206.jpg"/>
          <p:cNvPicPr/>
          <p:nvPr/>
        </p:nvPicPr>
        <p:blipFill>
          <a:blip r:embed="rId1"/>
          <a:stretch/>
        </p:blipFill>
        <p:spPr>
          <a:xfrm>
            <a:off x="4713120" y="2382840"/>
            <a:ext cx="38577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41c4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Baccalaureate Middle Year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gramme for 11-16 year 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-centered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of academic discip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ally rigo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interaction connect disciplines to the re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taught in an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to be used with loc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and reviewed by experienced, practicing 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A8618E92-4579-4E85-B320-31F0C1EA3E1C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41c4"/>
                </a:solidFill>
                <a:latin typeface="Arial"/>
              </a:rPr>
              <a:t>Contents 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6360" y="1981080"/>
            <a:ext cx="78660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 missio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IB program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er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ddle Years Programm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s of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vie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CE93E7D4-7391-4719-9CD2-1C26CC1AF7CB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7D3F11B4-8124-4AD8-917B-ED25363794DB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68160" y="1992240"/>
            <a:ext cx="4337280" cy="274680"/>
          </a:xfrm>
          <a:prstGeom prst="rect">
            <a:avLst/>
          </a:prstGeom>
          <a:solidFill>
            <a:srgbClr val="4f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77880" y="912960"/>
            <a:ext cx="819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Organization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What is the IB mission and legal stat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41c4"/>
                </a:solidFill>
                <a:latin typeface="Arial"/>
              </a:rPr>
              <a:t>The IB is a not-for-profit foundation, motivated by its educational mission, focused on the stud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68160" y="2395440"/>
            <a:ext cx="457848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International Baccalaureate aims to develop inquiring, knowledgeable and caring young people who help to create a better and more peaceful world through intercultural understanding and respe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o this end the organization works with schools, governments and international organizations to develop challenging programmes of international education and rigorous assess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se programmes encourage students across the world to become active, compassionate and lifelong learners who understand that other people, with their differences, can also be righ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7240" y="4722840"/>
            <a:ext cx="41022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IB is a non-profit making Swiss Foundation registered in 1968.  The activities of the organization are determined by an Act of Foundation approved by the Swiss authorit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77880" y="5518080"/>
            <a:ext cx="7778880" cy="600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marL="185760" indent="-1857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urther resourc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Annual Review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luding accounts is available on www.ibo.or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778360" y="2413080"/>
            <a:ext cx="275760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ted by a mission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aim to create a better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orld through edu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ships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achieve our goals by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orking toget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value our reputation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or high standar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ion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actively involve our stakehold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mindedness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embrace divers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671400" y="4305240"/>
            <a:ext cx="4442040" cy="274680"/>
          </a:xfrm>
          <a:prstGeom prst="rect">
            <a:avLst/>
          </a:prstGeom>
          <a:solidFill>
            <a:srgbClr val="4f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Legal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805360" y="1994040"/>
            <a:ext cx="2700360" cy="272880"/>
          </a:xfrm>
          <a:prstGeom prst="rect">
            <a:avLst/>
          </a:prstGeom>
          <a:solidFill>
            <a:srgbClr val="4f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Core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1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EBBB2F9C-8DBF-46E9-94F9-599E5C98A585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27"/>
          <p:cNvSpPr/>
          <p:nvPr/>
        </p:nvSpPr>
        <p:spPr>
          <a:xfrm>
            <a:off x="677880" y="912960"/>
            <a:ext cx="8018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Programmes 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What is the learner profile?</a:t>
            </a:r>
            <a:br>
              <a:rPr sz="2000"/>
            </a:br>
            <a:r>
              <a:rPr b="0" i="1" lang="en-GB" sz="1400" spc="-1" strike="noStrike">
                <a:solidFill>
                  <a:srgbClr val="0041c4"/>
                </a:solidFill>
                <a:latin typeface="Arial"/>
              </a:rPr>
              <a:t>It’s the IB mission statement translated into a set of learning outcomes for the 21</a:t>
            </a:r>
            <a:r>
              <a:rPr b="0" i="1" lang="en-GB" sz="1400" spc="-1" strike="noStrike" baseline="30000">
                <a:solidFill>
                  <a:srgbClr val="0041c4"/>
                </a:solidFill>
                <a:latin typeface="Arial"/>
              </a:rPr>
              <a:t>st</a:t>
            </a:r>
            <a:r>
              <a:rPr b="0" i="1" lang="en-GB" sz="1400" spc="-1" strike="noStrike">
                <a:solidFill>
                  <a:srgbClr val="0041c4"/>
                </a:solidFill>
                <a:latin typeface="Arial"/>
              </a:rPr>
              <a:t> centu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31"/>
          <p:cNvSpPr/>
          <p:nvPr/>
        </p:nvSpPr>
        <p:spPr>
          <a:xfrm>
            <a:off x="628560" y="4973760"/>
            <a:ext cx="4533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attributes of the learner profile express the values inherent to the IB continuum of international education: these are values that should infuse all elements of the three programmes and, therefore, the culture and ethos of all IB World School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B programmes promote the education of the whole person, emphasizing intellectual, personal, emotional and social growth through all domains of knowledg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34"/>
          <p:cNvSpPr/>
          <p:nvPr/>
        </p:nvSpPr>
        <p:spPr>
          <a:xfrm>
            <a:off x="5751360" y="1741320"/>
            <a:ext cx="252900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B learners strive to b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quir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ink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munica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ncip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n-min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isk-tak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flec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36" descr="C:\temp\Tsunami 2\IBO AISB Sri Lanka trip 058-1.JPG"/>
          <p:cNvPicPr/>
          <p:nvPr/>
        </p:nvPicPr>
        <p:blipFill>
          <a:blip r:embed="rId1"/>
          <a:stretch/>
        </p:blipFill>
        <p:spPr>
          <a:xfrm>
            <a:off x="669960" y="1805040"/>
            <a:ext cx="4543560" cy="3009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1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EDF7A81D-9845-45AF-AA97-CE3C89F68485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914040"/>
            <a:ext cx="7842240" cy="8096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edff"/>
                </a:solidFill>
                <a:latin typeface="Arial"/>
              </a:rPr>
              <a:t>Programmes: </a:t>
            </a:r>
            <a:r>
              <a:rPr b="1" lang="en-GB" sz="2400" spc="-1" strike="noStrike">
                <a:solidFill>
                  <a:srgbClr val="0041c4"/>
                </a:solidFill>
                <a:latin typeface="Arial"/>
              </a:rPr>
              <a:t>What is the MYP programme?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974880" y="3716280"/>
            <a:ext cx="1993680" cy="16178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rriculum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3533760" y="3727440"/>
            <a:ext cx="1994040" cy="16178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6138720" y="3706920"/>
            <a:ext cx="1994040" cy="161748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chool 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amp; programm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3543480" y="2284920"/>
            <a:ext cx="1849320" cy="837000"/>
          </a:xfrm>
          <a:prstGeom prst="flowChartAlternateProcess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ddle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ges 11 -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Philosophy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: What are the fundamental concepts of the MYP?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6000" y="1981080"/>
            <a:ext cx="385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istic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450ADA83-2965-4065-8C0C-06899C5DD184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J:\Strategic planning\communications\Images\Photos for calender\Australian International Academy\pics part 4\IMG_1161.jpg"/>
          <p:cNvPicPr/>
          <p:nvPr/>
        </p:nvPicPr>
        <p:blipFill>
          <a:blip r:embed="rId1"/>
          <a:stretch/>
        </p:blipFill>
        <p:spPr>
          <a:xfrm>
            <a:off x="4584600" y="2592360"/>
            <a:ext cx="3857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30663072-8A34-4872-93DA-C313F785F895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6360" y="1076400"/>
            <a:ext cx="7850160" cy="4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Definition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How is the Middle Years Programme defined?</a:t>
            </a:r>
            <a:br>
              <a:rPr sz="1900"/>
            </a:b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4600" y="1900080"/>
            <a:ext cx="7948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YP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tudents aged 11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ramework of academic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 subject groups, plus personal project in the final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ught in an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YP encourages student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 the connections between subjects through interdisciplinary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 the connections between subjects and the re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critical and reflective thin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12E1513C-5190-484A-BE30-8BC77D3D86DE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Philosophy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Programme model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pic>
        <p:nvPicPr>
          <p:cNvPr id="124" name="Picture 5" descr="J:\Strategic planning\communications\Programme models\English Models\Eng MYP PMS copy.jpg"/>
          <p:cNvPicPr/>
          <p:nvPr/>
        </p:nvPicPr>
        <p:blipFill>
          <a:blip r:embed="rId1"/>
          <a:stretch/>
        </p:blipFill>
        <p:spPr>
          <a:xfrm>
            <a:off x="1243080" y="1684440"/>
            <a:ext cx="637056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What are the areas of interaction?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30040" y="1981080"/>
            <a:ext cx="731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to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and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41c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and soci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41c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s</a:t>
            </a:r>
            <a:r>
              <a:rPr b="0" lang="en-GB" sz="2000" spc="-1" strike="noStrike">
                <a:solidFill>
                  <a:srgbClr val="ff4c2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41c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ingenuity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mo fa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1520862B-CB7D-4304-A308-68FB175CCCA9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4:33:17Z</dcterms:created>
  <dc:creator>ZoeclaireK</dc:creator>
  <dc:description/>
  <dc:language>en-US</dc:language>
  <cp:lastModifiedBy>visitor</cp:lastModifiedBy>
  <dcterms:modified xsi:type="dcterms:W3CDTF">2008-04-03T08:40:28Z</dcterms:modified>
  <cp:revision>104</cp:revision>
  <dc:subject/>
  <dc:title>PowerPoint Presentation</dc:title>
</cp:coreProperties>
</file>